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BFDE-5443-4315-89F1-9B045DEB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AC4-97B2-4171-B2EE-11AEE167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40D5B-7DA0-4441-9168-3D250739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D95F2-4990-452B-BB2A-9D39E43F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ED68C-B97E-46D1-8365-27A67043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CF5BB-5C63-40AD-B9F0-5E11795C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A6568-3096-4AC9-855E-2276431C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F7C95-3E57-47F2-805A-621B54F7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6B6D1-0A3E-4519-855A-5A5DDF6B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31366-0D85-4824-AB3C-0B791209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9E797-3F15-41D2-B805-078835C9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87003-F69E-4414-81B8-EAC542EC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38C-6E3E-4416-98C0-B2B219B3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747A7-DFB2-4D03-8D78-EB9515DD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31E2A-8D29-4431-A69B-BA81D1B3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E8300-04F9-4E37-9E41-830552B0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A345B-FD7B-4683-A8DE-22041120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4DA7A-8B4D-4C92-A29B-5189087E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70F89-6A62-48D7-AAF7-561D14C4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E72B3-006F-4847-A105-019F5849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D9D15-3DD7-4D34-BA9E-34557033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9562F-EEDD-4E14-A63B-CEC75F1E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86CF8-E10F-428B-8B24-21FCE8EB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33DB-27B8-46A4-8648-7E664A3C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5AB35-6DB2-485A-8DD4-048A22F6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888FC-FB5F-485E-9AB5-20A2C49A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049F5-78BA-4DE8-B5C7-C523C36C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78BD1-5C0A-42FF-B538-38F7C746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D578D-66F0-47F2-AD81-31C9F727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F7BCF-52EA-4F23-987D-96583A46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0CDEA-FE1B-4D03-A140-FC272DA5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85622-3203-4454-971A-863A68B1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68A69-942D-4EA7-ABBE-AA2A5487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4DCF3-C3A9-4692-BB20-9507ECF7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FA6C-456E-457F-8CF0-4CBA151A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FADF5-0F71-4475-8578-479D8451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A2E98-AC34-4F2D-B70F-B84AB40F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404CF-2B44-446F-94A7-5E3B24F6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AF7C1-7EF9-4816-9117-62B0792F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8484B-85EB-4339-BA1E-FC86B0D9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8E2BF-6F60-4F10-9CC3-4F3DE57A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979A4-58A6-4400-9F3A-A0121D5A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8B3F2-223D-4809-B1E6-4106B399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AE48D-FFF2-4ADF-B457-F42539EC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2317B-7A05-4089-BFEB-3967D2E7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459A-87CB-468E-84C7-3DCD8563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DF960-4966-466F-9079-F00CF56A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41D2D-67A7-44D0-B263-C46BBB12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FF447-FA64-4E64-893D-8E666898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918E6-7F62-4E3B-9938-531CAA4D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8D7CC-EC4E-4C5C-B234-1E1AC9D7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D26C3-E54F-4B70-AAE4-9A73F4BB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D3EB8-3655-4F30-B893-616A5410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8E8C8-A3A1-4DE6-A03B-D28122B2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05FCF-3958-44F4-9387-11E465E0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3B029-80BC-43C2-814F-CA6A959C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E40E-47EA-44E8-9444-025F9BFA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B554B-195B-48E1-9DA9-179CA725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FC2E9-5FA5-492B-A46E-60EB7B68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8D43B-0AA0-40A7-93CA-D6389F34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6C431-9CDC-44C0-8730-2035D1EB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37DBC-2855-476C-9CA9-300648BD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13E3C-6C58-4540-A9D6-30DD0116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3EFB3-6E57-4870-AECA-64310596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05CF29-4A0E-41DA-90FA-44D4D229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2412F4-2195-44EA-AB7B-5A560506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F9C580-49D1-4058-8ECF-68B1FA20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6F5F-82FA-47A2-A997-32E08B1A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8CBC5C-9D0A-4398-92C9-DC95F315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33FDAE-11B2-4883-B46D-4E8307DF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B8268A-6A9A-410E-88B7-BA22FA6E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B5B82D-8FDF-4ABF-AAE8-68F9EBBC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549530-7B99-4786-BB87-E34B25F8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1D748-AB72-4A39-BEED-6966446E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D7B87-57AD-4D9F-8DDD-BD6C7FC9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F963EA-36B2-4EB0-9A16-CA3CEE03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494AE-33C4-4685-830F-7EDAE08F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004E52-4335-49EC-9097-8DFEC1C0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6DA2-FE60-4B5E-AF61-BF1B771C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6276CE-8CB2-49B6-A957-97BEEA3F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A825D6-DACA-4DC5-9CAE-2CC3A961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2A90A5-9F05-45C1-9FD9-83855EEB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9BF0F5-40D2-4F50-802E-DC07CE3B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4EE1F3-F0F1-4A03-836D-259AC994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3F7567-303F-43A5-9019-B5B08897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845774-0308-4C59-B3DE-ABA1D858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B37C6-9E9A-454E-BF1F-99F5A0C9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195A0-BF52-4321-8466-8A8874B6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CEA221-0814-42C8-8E60-18ECF281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1DB1-CC13-4FDA-83C6-BE63D4A7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2ABAFC-C1D5-4D54-A8C6-537D4CBD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96FD45-3EB8-46AC-9B00-9654737E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2AF3D7-1DE0-411F-A7B2-0587F41B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097D1F-C352-46F1-9CC1-2DE2BA38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3DD25E-0F33-4E83-939A-E56D0205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0DB1C2-573B-404E-B79E-6CAAFC01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CA1DF0-86B3-4834-A9E2-0EF1FADE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A51596-E0B6-4B7D-AFFB-93B55A5A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86E996-B4F6-435E-BEFB-85B300DA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535BA4-5220-4F49-AC09-578020EE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E959-5DF2-402A-A6B3-BECCAC30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FA300D-D631-4030-BC29-90C8BDF4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ACD582-6C63-44F3-9F2C-08F8B5AC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E91BF1-1673-4F2C-93DE-7D127596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62213D-9C3D-452C-B2EF-81D1C0F1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364B14-FADA-436A-940D-D03BBC1A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534AA4-A3E4-438F-9BA2-C6EE0B3C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47E384-B8C4-444B-87F1-E5164FF5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4CE4F1-4110-43CF-A0B6-C33BBD7F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FF29CE-5759-4EF7-B07A-423F4BA6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EB2276-0A97-4864-851C-A96178DB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3759-F079-4A1F-85A9-6EFA4436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C947-6EBB-445F-8B7A-A676EE4F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36B3A8-086D-486C-BFDF-C96391AD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8F5A52-468E-48F7-A59F-242C95FC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6D2421-5850-4719-804F-73AD8741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3A1832-1C56-4D5D-9D2F-77979BFB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6F4806-1B63-4AE8-9491-46AFFBD6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DA043C-927E-4F87-BEB7-05EB42D5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7EEE14-52E2-424D-B1BD-7976359C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D309F4-32D0-4663-8CC8-8DD2D2CD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1C8468-DD77-49A0-807B-D231FF76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9F2D1A-8077-4076-B587-031A0BCB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42F2-3404-47AB-817F-EDA8766B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0FECB6-31D6-4CEE-A1C5-B797BE25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12E28F-4191-461F-95A4-CC874AEB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44A082-AA7C-45FE-9F24-10D2757D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05808B-7CCD-4AC1-A173-53A0CF46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8158A2-E073-4B49-A0BB-84743ECE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20ADBF-FE90-4432-8371-FBFCC37E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AEF226-D679-4B87-BE3F-E02E8C10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9D721F-D682-4767-9A8F-A5F3533A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77ADCA-0AE1-42E2-82B4-53047547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50CB24-90FE-4B99-B8F0-228039B8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CD93-6D2A-46B0-9F69-B57F20EF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AC57FF-332E-4D98-95C5-88CCBED5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4301C3-5E5B-455D-9400-EDCBC15D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333013-5926-4DA7-8FE3-D8FFEB1D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D4A3EB-43C9-41C0-B3C6-DFAB4BAB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523E53-4A68-437B-BC4B-D5680FA1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70179B-F386-414E-B54B-26D3E982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460585-C387-4B23-ADDC-F2FEABB1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B0805E-3134-4909-A750-402032FA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89C9C0-B90F-4734-B32C-3A3B49CA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08CD0D-4DE1-4940-BEC7-3F0F8562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E769-FED2-4603-9A1A-E39430D7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63CC4B-9C73-4627-9F1C-DBDDA691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D8491E-BBEF-47D8-975D-F2D904B6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03D768-0A41-41F3-A87B-9C4645FD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D4BE42-A528-481E-8BBC-D96EBDC6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C533AB-53DE-4A0F-8F32-F78947D4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752D49-4DDB-4A63-9D96-2FDE964C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D56899-4FEC-4E70-8EDA-6D151DEB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742035-19EB-48A0-A32F-EEB046F1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DB6F0C-FBC3-48A6-A674-3CA71A99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8397B4-1E52-4DAD-AC05-F9B1FA7D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09F9-6014-4EB8-A7E8-31B0B9CE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8BADFA-400E-44D7-8B7D-27566D07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42BD39-0FD0-4ABA-A974-D6AB7210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FAF83E-03D0-492F-867B-4F992B03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A6C8BE-7E91-4559-8B71-D97EF08E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577755-547E-4153-8E3F-BC244BE8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A7871A-B9A9-4516-8AF9-F4ADF0CC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543B8D-18C8-492F-A65E-7F6AA377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3012CF-7C0B-4926-8387-C703CDD9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03C278-88FB-4F52-83A6-58B6AF0B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DA8012-C158-48F3-AEF2-9780448C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82AE73-E609-42C6-8422-B916C65B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6EB572-92B8-4644-865F-37E46295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41281B-E1D4-49B6-ADE0-C7A56145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8F5E-0A2E-47FF-A02E-85A320EE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06321-240E-4D41-B5DF-FF5441D2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C4091-561E-4BD7-93C3-5EF53499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89133-8F35-46CD-996A-43410CB5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0E46-4859-4D91-ADB7-AFAD7AA3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24EFD-D4BF-4EBD-9750-3DBC6CC6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91CE4-E1BB-4112-984B-A0F88B4A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1FB8E-68D8-4FB0-BCE9-D0A2A507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E8E4B-F003-4591-8EF5-16139EC5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77F0B-22D0-4373-8BAF-023F62CD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5715C-3E8F-4B24-B535-CDCCA9A8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5192C-DA15-4ED8-8E07-5F156961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327FB-2F89-4BFA-BE71-B2F9AF63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A2032-C070-4E17-875B-9E27DA0F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AE174-529D-4D42-8203-35CA4D8C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1E00-FDD3-4E10-A9AF-584A965E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0E176-2D3A-40EE-BF6C-62F2F2EB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7C4CE-920A-49D2-AAE8-12670CD8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386BC-1692-4F67-8457-429E886C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1DB62-48C1-43B8-87D3-D5DC9F50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B3CCF-0B54-4BA8-8AEC-47B04DF8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41AE1-D447-4F21-876C-6EBEB770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E3C93-D959-4D74-AA76-A4D558D7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EEEBC-5BD4-4F8A-A25B-69178132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92BDD-EC6F-48BB-922C-53BCDCA0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11867-B3A0-4868-A555-02FAA0E7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D70-EED6-4EE6-80E4-C3A88685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56D1E-50BF-4CDC-80A6-85E95DAF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439B1-1AF3-40C1-BE4C-AFEDA277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EAA1F-7426-4D9D-BBBF-309C521E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209FD-6CD0-4506-9C02-111D02D3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AB1C3-1541-418E-89A2-4D036656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B42CD-1530-4AE3-A58D-04042000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AFF4A-1CA0-49B1-AD58-AB01CE44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92DF9-0291-4D59-B8AF-6ECA4036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AE3D7-8C7D-4FEA-A854-2F006B67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8696E-70A8-47A6-97B7-E61E07D5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ECDD-4067-481C-8666-E0DC34A2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DAAE1-02A6-414A-AC80-3947A135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61853-855C-4AA2-ABFF-3F2D2530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3F6AB-CA05-4494-895D-DBDB26BE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6804D-DC65-4484-A7F3-2B2715DD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86FED-F3E9-4001-834A-81930391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7947B-D863-4038-9B36-A86661BF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139D0-B4B5-47CA-BA83-752FD279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BBA4D-FE15-4ABB-BC9E-A774510E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5C26D-8163-4567-A1E2-9DFB7E68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58454-8CAC-468F-ABB1-EBF6FF62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76BC-8698-4E59-BF15-7836066A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2CAE3-140C-47FB-8E44-272CDA57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F16AA-1112-4955-A9D6-500D6F81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9AA58-F5FA-4A25-9C4B-BAD4E14E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97117-5424-48E4-B5B9-123F3003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C8637-8302-4D7F-A4E2-AE175776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0A1E7-649A-46EF-A91D-DC52A320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DF3FA-540D-496A-BC42-57BE5060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F2C00-4D7E-4409-B849-040CC200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860C7-6E4D-4D33-BF4D-C73D7AE1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911B6-0C72-463D-A823-70167142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3734-4CAA-4CA7-B2F0-37E135CC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0C9A8-6D8B-4D21-ABB1-CA8B836F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30427-CDDD-4700-B6EE-CAE0FC8E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E8819-FD9C-4702-A345-1F703E66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BCE61-DF5C-445F-A407-0A8BAD86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C6683-D4BC-47F4-AC7C-E49CE84A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967F1-9118-49EB-8AB7-2F638B46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69E15-EAF1-4421-B9C4-CBEB8A2A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76262-9CCB-49AB-9290-A3DEE1D0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08C3C-477A-469B-B77B-A1064BCE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7B924-EA75-4B16-A4EE-BC9E11B6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BFD3-E203-4612-B86A-178B2882AD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DE9F-1882-4434-99A3-E3D7FBFF88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59D1-F266-4BE1-8D72-02BEF2C966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F5F8-57A2-4ECE-A4D4-A39979C628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7068-72FD-4EF6-93E0-98E195220E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0F4F-B13C-4FCD-A049-A586BE0411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78B8-C8E1-4034-A016-DE2CC1D370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7383-AD7B-4B5D-A3F7-B53D6B17B7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2546-3010-4ACD-879E-188D93DD82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A51C-9F21-4CB0-98ED-9C86A56F6B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7566-F67F-4543-9455-CE5197B347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D547-F4E1-4EF9-AF21-20D3136BDB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1EB8-0AD9-4B69-87CC-CB13F05E40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ADE8-9F6A-4B2C-9BF2-6FD2CBBE3D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2D5C-E8B4-465A-BE9B-EECCBD0A99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17FA-05EC-4C4A-B46A-EA7CEE0239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8AF4-0E82-4737-990C-A703CBA2F7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4C28-AB45-492D-9C1F-A5B91E8F91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83EB-01FD-45D1-AF2A-517BD7BCF8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3ECC-9388-4900-9D5B-FB35161290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4F6F-5CC3-43AE-946C-C35617DB0E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8B2A-23E1-42B5-B457-DA340B4789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DCBF-6290-488D-A8A2-D95FF70558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AD74-61E9-41FF-9A2D-19B726E74A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E190-4534-4DDC-8B5C-B8C0B90D22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DD67-FF1D-419B-8DD5-97BA85C01C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9BF3-A464-4190-A01F-F7F7EF16BA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2505-6EDC-4483-8F3B-A401EBE17C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D866-B883-4305-B2FC-5942A38FA9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BA07-6980-44BB-A042-E5AB22D40D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56D5-54BA-4FC5-8C4C-EDBC9B6AF2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5791-EC8D-4297-A65F-F372754C54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EC8D-70E7-4FEB-8C02-C7909D88C7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9ADF-690A-44A0-BFF7-5B4A645415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F105-6A6B-4C31-A063-E04F4DA879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3DC8-6B6C-4FFE-B6CD-E5EF8F4DD6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F8B0-EC30-4819-8F05-EAD2D52899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8C08-4D2E-49BC-8989-8D2672CCD5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5A68-121F-446F-97BF-D8D8B0EBA5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1376280" y="2928960"/>
            <a:ext cx="63914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24" name="组合 22531"/>
          <p:cNvGrpSpPr/>
          <p:nvPr/>
        </p:nvGrpSpPr>
        <p:grpSpPr>
          <a:xfrm>
            <a:off x="250920" y="189000"/>
            <a:ext cx="7846920" cy="6480000"/>
            <a:chOff x="250920" y="189000"/>
            <a:chExt cx="7846920" cy="6480000"/>
          </a:xfrm>
        </p:grpSpPr>
        <p:pic>
          <p:nvPicPr>
            <p:cNvPr id="1025" name="图片 22529" descr=""/>
            <p:cNvPicPr/>
            <p:nvPr/>
          </p:nvPicPr>
          <p:blipFill>
            <a:blip r:embed="rId1"/>
            <a:stretch/>
          </p:blipFill>
          <p:spPr>
            <a:xfrm>
              <a:off x="611280" y="1030320"/>
              <a:ext cx="7486560" cy="56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图片 22530" descr=""/>
            <p:cNvPicPr/>
            <p:nvPr/>
          </p:nvPicPr>
          <p:blipFill>
            <a:blip r:embed="rId2"/>
            <a:stretch/>
          </p:blipFill>
          <p:spPr>
            <a:xfrm>
              <a:off x="250920" y="189000"/>
              <a:ext cx="4971960" cy="64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6659640" y="30830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6659640" y="61945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4140360" y="314172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4067280" y="620856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7"/>
          <a:stretch/>
        </p:blipFill>
        <p:spPr>
          <a:xfrm>
            <a:off x="1547640" y="61945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8"/>
          <a:stretch/>
        </p:blipFill>
        <p:spPr>
          <a:xfrm>
            <a:off x="1547640" y="3141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图片 21505" descr=""/>
          <p:cNvPicPr/>
          <p:nvPr/>
        </p:nvPicPr>
        <p:blipFill>
          <a:blip r:embed="rId1"/>
          <a:stretch/>
        </p:blipFill>
        <p:spPr>
          <a:xfrm>
            <a:off x="409680" y="1004760"/>
            <a:ext cx="8324640" cy="4848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1476360" y="2205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476360" y="4221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图片 20481" descr=""/>
          <p:cNvPicPr/>
          <p:nvPr/>
        </p:nvPicPr>
        <p:blipFill>
          <a:blip r:embed="rId1"/>
          <a:stretch/>
        </p:blipFill>
        <p:spPr>
          <a:xfrm>
            <a:off x="1033560" y="1604880"/>
            <a:ext cx="7076880" cy="36482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1332000" y="371628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8193" descr=""/>
          <p:cNvPicPr/>
          <p:nvPr/>
        </p:nvPicPr>
        <p:blipFill>
          <a:blip r:embed="rId1"/>
          <a:stretch/>
        </p:blipFill>
        <p:spPr>
          <a:xfrm>
            <a:off x="525600" y="115920"/>
            <a:ext cx="8439120" cy="63342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1547640" y="1197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1619280" y="3141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1547640" y="4076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1547640" y="5013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图片 9217" descr=""/>
          <p:cNvPicPr/>
          <p:nvPr/>
        </p:nvPicPr>
        <p:blipFill>
          <a:blip r:embed="rId1"/>
          <a:stretch/>
        </p:blipFill>
        <p:spPr>
          <a:xfrm>
            <a:off x="171360" y="839880"/>
            <a:ext cx="8801280" cy="5829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2"/>
          <a:stretch/>
        </p:blipFill>
        <p:spPr>
          <a:xfrm>
            <a:off x="6084720" y="36590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3"/>
          <a:stretch/>
        </p:blipFill>
        <p:spPr>
          <a:xfrm>
            <a:off x="4284720" y="44798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4"/>
          <a:stretch/>
        </p:blipFill>
        <p:spPr>
          <a:xfrm>
            <a:off x="2700360" y="52434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5"/>
          <a:stretch/>
        </p:blipFill>
        <p:spPr>
          <a:xfrm>
            <a:off x="7812000" y="6021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1:21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